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1636-20A2-46A9-AE8E-D27C5146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5D5-1550-4826-A9C5-609CFBBB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29C-D64E-4AC3-B4AF-F5C6B9A2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E1D-7139-461C-9719-092496EDA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5A71-99B4-44EB-87E8-1E2A3365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35A1-4A01-4946-8E1B-19F445B9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489-1046-4BD6-A53B-00AA0EDB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6C7-1BFF-49FF-A281-59A82C2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4AC-C1F8-463C-AA3D-043CC0F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985-DA98-4F62-8486-F9F620B4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37D-C0D6-4EE0-8979-03D295C5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06C6-4B36-4C83-8963-DDADABF4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6E19-024D-48BC-A03B-33CB25C50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0840" y="228600"/>
          <a:ext cx="7926480" cy="6510240"/>
        </p:xfrm>
        <a:graphic>
          <a:graphicData uri="http://schemas.openxmlformats.org/drawingml/2006/table">
            <a:tbl>
              <a:tblPr/>
              <a:tblGrid>
                <a:gridCol w="1220760"/>
                <a:gridCol w="914400"/>
                <a:gridCol w="838080"/>
                <a:gridCol w="914400"/>
                <a:gridCol w="914400"/>
                <a:gridCol w="990720"/>
                <a:gridCol w="914400"/>
                <a:gridCol w="121932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d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t-in SqL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SQ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ia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g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 Ac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sql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ll queries allow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rite speed  (images per 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8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d speed setup/record (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/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/0.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/0.0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/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/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 (10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imag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7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9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G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.000 ima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asy to set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BC re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up sp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very large datab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 start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ightly reduced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ource hung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eds optimiz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t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 0.25 million im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servers share database?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b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ab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</dc:creator>
  <dc:description/>
  <dc:language>en-US</dc:language>
  <cp:lastModifiedBy>marcel</cp:lastModifiedBy>
  <dcterms:modified xsi:type="dcterms:W3CDTF">2016-08-27T22:27:56Z</dcterms:modified>
  <cp:revision>15</cp:revision>
  <dc:subject/>
  <dc:title>PowerPoint Presentation</dc:title>
</cp:coreProperties>
</file>