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C1E-CEB6-40AC-8780-50108630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B13-9170-4A01-A57E-679864FE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F75-2D88-4348-9757-36191FFF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53E-E0C3-4CBB-A678-261FEC7A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F9D-97A3-4B18-8F72-02A7ABAF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260-2C94-4B0D-B0A3-E24FE3AF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525-89F6-4185-87B1-E5A5DA0C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41B-9830-492A-9810-EDC788C9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30A-B2A4-46AC-BA0B-992F23D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8AF-AF82-41D8-A62E-3861D8A3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F88-2580-402E-8834-49669000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F02-FBCF-46EA-8EC5-9DABF64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2E27-4A84-4BE2-8CD8-A8BDBBD4A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0840" y="228600"/>
          <a:ext cx="7926480" cy="6510240"/>
        </p:xfrm>
        <a:graphic>
          <a:graphicData uri="http://schemas.openxmlformats.org/drawingml/2006/table">
            <a:tbl>
              <a:tblPr/>
              <a:tblGrid>
                <a:gridCol w="1220760"/>
                <a:gridCol w="914400"/>
                <a:gridCol w="838080"/>
                <a:gridCol w="914400"/>
                <a:gridCol w="914400"/>
                <a:gridCol w="990720"/>
                <a:gridCol w="914400"/>
                <a:gridCol w="1219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d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Sq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SQ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a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g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sql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ll queries allow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speed  (images per 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speed setup/record (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/0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.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/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 (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mag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7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9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 im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sy to set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BC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up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very large data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 start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ightly reduced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 hung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optim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t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0.25 million im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servers share database?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</dc:creator>
  <dc:description/>
  <dc:language>en-US</dc:language>
  <cp:lastModifiedBy>marcel</cp:lastModifiedBy>
  <dcterms:modified xsi:type="dcterms:W3CDTF">2016-08-27T22:27:56Z</dcterms:modified>
  <cp:revision>15</cp:revision>
  <dc:subject/>
  <dc:title>PowerPoint Presentation</dc:title>
</cp:coreProperties>
</file>